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FD7-8238-46C9-A8C0-D1AEBD50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87E-030B-481C-BACF-578E9428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A68-39F5-42BF-9B60-DF5BDFB5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1EB-9666-40AB-A0EC-66E809C8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D260-923A-4657-AD01-A031E521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3B0-528D-4D19-9868-E7CA052C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8D86-62FB-4EBD-AB7E-37A6514C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70D7-43B7-4FF6-BD77-5A2917E1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A744-6253-4C26-9C33-7331904B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BE11-EAD7-48D8-8267-B8032DEB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F7DA-B465-4699-AB26-94A96CF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253-3363-475E-8399-BE30D184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CDD-9AF8-4E91-BCF4-39142E5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5069-BBAF-42C8-9073-E511DE5A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7D7-5E45-4695-B579-25FD5AD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F5B6-6C12-4A7D-B02B-C77F08A1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6275-F126-4BA9-B1F5-A106C035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E3C-7CD9-407B-B538-F1708FC6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890-072E-4D1B-952D-916248CD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925-76E3-472F-AB96-1D762E36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9EB-041C-4C9F-9651-01084F57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23A-0727-4BFD-BC99-4D1D84A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D57-0007-4352-9F6A-5A0518B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9C3-30D1-4071-AEE8-A85A6D1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EE47-B43A-4CC3-ADC1-6C6AF0ABD36F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FDD8-9609-4B29-A669-A4FFD7CD7A60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7632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ittle Rock Map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12520" y="3885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RSD Third Grade Social Stud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. Ruger, 187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ibrary of Congres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Picture 4" descr="A"/>
          <p:cNvPicPr/>
          <p:nvPr/>
        </p:nvPicPr>
        <p:blipFill>
          <a:blip r:embed="rId1"/>
          <a:stretch/>
        </p:blipFill>
        <p:spPr>
          <a:xfrm>
            <a:off x="1219320" y="838080"/>
            <a:ext cx="7315200" cy="50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Gazette Printing Company, 1887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9" name="Picture 4" descr="map_image_sepia_ar"/>
          <p:cNvPicPr/>
          <p:nvPr/>
        </p:nvPicPr>
        <p:blipFill>
          <a:blip r:embed="rId1"/>
          <a:stretch/>
        </p:blipFill>
        <p:spPr>
          <a:xfrm>
            <a:off x="838080" y="1319040"/>
            <a:ext cx="7772400" cy="5240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ickon, Gibb, &amp; Duff, 1888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Picture 5" descr="map_image-1"/>
          <p:cNvPicPr/>
          <p:nvPr/>
        </p:nvPicPr>
        <p:blipFill>
          <a:blip r:embed="rId1"/>
          <a:stretch/>
        </p:blipFill>
        <p:spPr>
          <a:xfrm>
            <a:off x="1447920" y="1295280"/>
            <a:ext cx="6933960" cy="520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utomobile Blue Book Co., 1920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University of Texas Perry-Castañeda Map Collection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" name="Picture 4" descr="little_rock_ark_1920"/>
          <p:cNvPicPr/>
          <p:nvPr/>
        </p:nvPicPr>
        <p:blipFill>
          <a:blip r:embed="rId1"/>
          <a:stretch/>
        </p:blipFill>
        <p:spPr>
          <a:xfrm>
            <a:off x="1295280" y="1500120"/>
            <a:ext cx="73915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65530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urrent Street Map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" name="Picture 4" descr="map1"/>
          <p:cNvPicPr/>
          <p:nvPr/>
        </p:nvPicPr>
        <p:blipFill>
          <a:blip r:embed="rId1"/>
          <a:stretch/>
        </p:blipFill>
        <p:spPr>
          <a:xfrm>
            <a:off x="2514600" y="1371600"/>
            <a:ext cx="50817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atellite Photo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Picture 4" descr="401px-Little_Rock_satellite_map"/>
          <p:cNvPicPr/>
          <p:nvPr/>
        </p:nvPicPr>
        <p:blipFill>
          <a:blip r:embed="rId1"/>
          <a:stretch/>
        </p:blipFill>
        <p:spPr>
          <a:xfrm>
            <a:off x="2209680" y="304920"/>
            <a:ext cx="4183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5:57:48Z</dcterms:created>
  <dc:creator>Kristin  Mann</dc:creator>
  <dc:description/>
  <dc:language>en-US</dc:language>
  <cp:lastModifiedBy>laura.arnold</cp:lastModifiedBy>
  <dcterms:modified xsi:type="dcterms:W3CDTF">2012-08-17T15:54:07Z</dcterms:modified>
  <cp:revision>3</cp:revision>
  <dc:subject/>
  <dc:title>Little Rock Maps</dc:title>
</cp:coreProperties>
</file>